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CEE-E4A9-492D-AE07-790D44D2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AB0-ADE4-47CE-A110-DBE5D827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12A-DD99-46C0-AAB5-FA68B89D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19F-87B9-4688-80CF-2768FA7A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F91-5210-48EF-A92C-E1A0EE14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2BA-0ABD-4917-9C1A-BB15D9EC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134-D094-4F37-A09D-45F53202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BCB-B18A-4066-AA15-2B4BC7E3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738-9A2D-4A22-BD01-27183204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BEA-C2A8-4D9D-9203-13F7FF0C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463-179A-4CB7-A76B-A9DC150E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B01-ED50-4C1E-B794-D1448C2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FA6F-3521-4AB7-8302-A30193BC2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28126" t="18753" r="9376" b="12502"/>
          <a:stretch/>
        </p:blipFill>
        <p:spPr>
          <a:xfrm>
            <a:off x="1523880" y="2017800"/>
            <a:ext cx="5867640" cy="484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ynavox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orida Field Sales and Suppor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7/6/09</a:t>
            </a:r>
            <a:br>
              <a:rPr sz="20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ch support – 800-344-1778;  ext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2"/>
          <p:cNvSpPr/>
          <p:nvPr/>
        </p:nvSpPr>
        <p:spPr>
          <a:xfrm>
            <a:off x="457200" y="2819520"/>
            <a:ext cx="25146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 Panhandle  - Robert Carlson; 850-273-2270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es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ambia, Santa Rosa, Okaloosa, Walton, Holmes, Washington, Bay, Jackson, Calhoun, Gulf, Franklin,  Liberty, Gadsden, Leon, Wakulla, Jefferson, Madison, Taylor, Hamilton, Suwannee, Columbia, Baker, Union, Bradford, Alachua, Gilchrist, Levy, Dixie, Laye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3"/>
          <p:cNvSpPr/>
          <p:nvPr/>
        </p:nvSpPr>
        <p:spPr>
          <a:xfrm>
            <a:off x="6400800" y="1523880"/>
            <a:ext cx="251460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 Northeast  - Kim Hull; 407-414-2294;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es – Nassau, Duval, Clay, St. Johns, Putnam, Flagler, Marion, Lake, Seminole, O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4"/>
          <p:cNvSpPr/>
          <p:nvPr/>
        </p:nvSpPr>
        <p:spPr>
          <a:xfrm>
            <a:off x="7467480" y="4191120"/>
            <a:ext cx="137160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 East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sity Conley; 561-385-5105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es – Palm Beach, Martin,Glades,Highland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keecobee, St. Lucie, Indian River, Brevard, Osceola, Volu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5"/>
          <p:cNvSpPr/>
          <p:nvPr/>
        </p:nvSpPr>
        <p:spPr>
          <a:xfrm>
            <a:off x="2362320" y="4495680"/>
            <a:ext cx="2438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 Central  - Rick Archer; 813-362-3231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es –Pinellas, Pasco, Hillsb, Manatee, Sumter, Hernando, Citrus, Polk, Hard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6"/>
          <p:cNvSpPr/>
          <p:nvPr/>
        </p:nvSpPr>
        <p:spPr>
          <a:xfrm>
            <a:off x="380880" y="5638680"/>
            <a:ext cx="266724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 South – Todd Metzler; 954-254-4335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es – Broward, Miami, Monroe, Collier,Hendry,Lee, Charlotte, Sarasota, Deso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7"/>
          <p:cNvSpPr/>
          <p:nvPr/>
        </p:nvSpPr>
        <p:spPr>
          <a:xfrm>
            <a:off x="2286000" y="5562720"/>
            <a:ext cx="3733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8"/>
          <p:cNvSpPr/>
          <p:nvPr/>
        </p:nvSpPr>
        <p:spPr>
          <a:xfrm flipV="1">
            <a:off x="2209680" y="4267080"/>
            <a:ext cx="3048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9"/>
          <p:cNvSpPr/>
          <p:nvPr/>
        </p:nvSpPr>
        <p:spPr>
          <a:xfrm flipV="1">
            <a:off x="1981080" y="2666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0"/>
          <p:cNvSpPr/>
          <p:nvPr/>
        </p:nvSpPr>
        <p:spPr>
          <a:xfrm flipH="1">
            <a:off x="7086240" y="39625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1"/>
          <p:cNvSpPr/>
          <p:nvPr/>
        </p:nvSpPr>
        <p:spPr>
          <a:xfrm flipH="1">
            <a:off x="6552720" y="25909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37:23Z</dcterms:created>
  <dc:creator>nashad</dc:creator>
  <dc:description/>
  <dc:language>en-US</dc:language>
  <cp:lastModifiedBy> </cp:lastModifiedBy>
  <dcterms:modified xsi:type="dcterms:W3CDTF">2009-07-16T14:58:06Z</dcterms:modified>
  <cp:revision>18</cp:revision>
  <dc:subject/>
  <dc:title>South East Region</dc:title>
</cp:coreProperties>
</file>